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2CE-3FE5-4558-B5B4-61B8D541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2567-02A4-4364-A10C-D3C48B02A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B77-6379-45C7-9037-860DD431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D8E-6AF2-4686-9194-A8EB4983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6BA4-6094-4049-9610-061F20D2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CBA3-8FB1-437B-8E26-34EF8B74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8760-AB0C-42E4-85D5-5664084C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CBEA-1ED0-4F71-99DC-D799F84E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52F4-3EF0-45AE-8871-3D3C13A2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8870-085B-48F9-A131-012B816A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258D5-EC5A-4AFF-B03A-C0A449B1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FC87-5315-4CF7-82E8-E02C092E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C048-4662-407E-A0D0-21A62638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8846A-38BB-42CE-80C8-CF977E6F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D653-C8F5-4310-ACC1-5B66242F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483A-01C2-4DE9-B1EF-5DF7FEDC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FD6F-49E7-4EAC-BDB2-F07DC41A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B8F76-CEDF-491E-8CE4-A87E5E11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032F8-74F2-4E27-8A81-B300E9B1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62CDA-2C32-44BA-AD74-3664A719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1327C9-4878-45B9-8FF7-21EF9E57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4F907-9F12-482B-891F-84672D24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48DB-C3FB-4F4F-B179-F6F6DD6D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3E942-71B7-498A-98E4-B12CBED7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08760-0E33-49D0-B0EA-1D0BDF75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AA485-0E5A-40B6-82F6-A47DB149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E4A09-178C-41E5-8F4E-65F76F01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5531F-2A1F-4304-9C72-C0505CC3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B9623-66C1-4BF5-AD1B-907C66DBD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4D5CE-FCFB-43DD-9EBC-2BB86B6E1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B12D-C2A6-4EC4-AE7A-E0B3420B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F8E-1896-4BE3-B104-7C73C9C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401-CB1B-4AC4-9975-F1183213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4F8-DE9F-4C67-9B49-0B764AE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1C34-D3F2-4706-84A7-671A5D10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2E1-32B7-44FE-9669-17DFB674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22BC-48CB-4B6A-86C5-CAE88CA66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3C90-E92B-4520-8866-D22EB3E874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FA53-580E-4C34-9C23-36DFF8B3C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متوازي الأضلاع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5654520" y="14461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3736800"/>
            <a:ext cx="8810640" cy="2997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692360" y="3027240"/>
            <a:ext cx="410364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2840" y="1260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91120" y="554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رابع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80172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927000"/>
            <a:ext cx="82821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651640" y="292428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02280" y="1511280"/>
            <a:ext cx="28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خامس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5320" y="22050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2080" y="233208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توازى وتساوى ضلعان متقابلان ف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516720" y="299736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مثل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53960" y="2975040"/>
            <a:ext cx="403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-82440" y="3654360"/>
            <a:ext cx="5249880" cy="2649240"/>
            <a:chOff x="-82440" y="3654360"/>
            <a:chExt cx="5249880" cy="2649240"/>
          </a:xfrm>
        </p:grpSpPr>
        <p:sp>
          <p:nvSpPr>
            <p:cNvPr id="358" name=""/>
            <p:cNvSpPr/>
            <p:nvPr/>
          </p:nvSpPr>
          <p:spPr>
            <a:xfrm flipH="1">
              <a:off x="1547280" y="41497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44120" y="585612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830760" y="414972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64640" y="413856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755640" y="414972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2932200" y="3968640"/>
              <a:ext cx="341280" cy="363600"/>
              <a:chOff x="2932200" y="3968640"/>
              <a:chExt cx="341280" cy="363600"/>
            </a:xfrm>
          </p:grpSpPr>
          <p:sp>
            <p:nvSpPr>
              <p:cNvPr id="364" name=""/>
              <p:cNvSpPr/>
              <p:nvPr/>
            </p:nvSpPr>
            <p:spPr>
              <a:xfrm>
                <a:off x="2932200" y="396864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79800" y="39733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2222640" y="5665680"/>
              <a:ext cx="342720" cy="363600"/>
              <a:chOff x="2222640" y="5665680"/>
              <a:chExt cx="342720" cy="363600"/>
            </a:xfrm>
          </p:grpSpPr>
          <p:sp>
            <p:nvSpPr>
              <p:cNvPr id="367" name=""/>
              <p:cNvSpPr/>
              <p:nvPr/>
            </p:nvSpPr>
            <p:spPr>
              <a:xfrm>
                <a:off x="2371680" y="56656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222640" y="567072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4375080" y="39639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80000" y="566100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19080" y="365436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-82440" y="551664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14240" y="50846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81560" y="438624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4519440" y="3778200"/>
            <a:ext cx="45007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84720" y="6164280"/>
            <a:ext cx="1150920" cy="54936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4960" y="6083280"/>
            <a:ext cx="115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8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4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2924280"/>
            <a:ext cx="8893080" cy="165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0920" y="0"/>
            <a:ext cx="8893080" cy="292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-396720" y="-41400"/>
            <a:ext cx="5249880" cy="2649240"/>
            <a:chOff x="-396720" y="-41400"/>
            <a:chExt cx="5249880" cy="2649240"/>
          </a:xfrm>
        </p:grpSpPr>
        <p:sp>
          <p:nvSpPr>
            <p:cNvPr id="381" name=""/>
            <p:cNvSpPr/>
            <p:nvPr/>
          </p:nvSpPr>
          <p:spPr>
            <a:xfrm flipH="1">
              <a:off x="1233000" y="4539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429840" y="2160360"/>
              <a:ext cx="3095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3516480" y="453960"/>
              <a:ext cx="79200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50360" y="442800"/>
              <a:ext cx="79236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41360" y="453960"/>
              <a:ext cx="3887640" cy="1727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2617920" y="272880"/>
              <a:ext cx="341280" cy="363600"/>
              <a:chOff x="2617920" y="272880"/>
              <a:chExt cx="341280" cy="363600"/>
            </a:xfrm>
          </p:grpSpPr>
          <p:sp>
            <p:nvSpPr>
              <p:cNvPr id="387" name=""/>
              <p:cNvSpPr/>
              <p:nvPr/>
            </p:nvSpPr>
            <p:spPr>
              <a:xfrm>
                <a:off x="2617920" y="27288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765520" y="27756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1908360" y="1969920"/>
              <a:ext cx="342720" cy="363600"/>
              <a:chOff x="1908360" y="1969920"/>
              <a:chExt cx="342720" cy="363600"/>
            </a:xfrm>
          </p:grpSpPr>
          <p:sp>
            <p:nvSpPr>
              <p:cNvPr id="390" name=""/>
              <p:cNvSpPr/>
              <p:nvPr/>
            </p:nvSpPr>
            <p:spPr>
              <a:xfrm>
                <a:off x="2057400" y="196992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908360" y="197496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4060800" y="2682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65720" y="1965240"/>
              <a:ext cx="79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4800" y="-41400"/>
              <a:ext cx="7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36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-396720" y="1820880"/>
              <a:ext cx="79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32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9960" y="13888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67280" y="690480"/>
              <a:ext cx="108108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30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4822920" y="17784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ب ا ؟ ج  = د ج ؟ ا 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30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l-KsorZulfiMath"/>
              </a:rPr>
              <a:t> 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637160" y="82872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وهما زاويتان متبادلت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486320" y="158256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إ ا ب  ] د &l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99080" y="223848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  <a:cs typeface="Al-KsorZulfiMath"/>
              </a:rPr>
              <a:t>، بم  ا د ] ب &lt;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abic Transparent"/>
              </a:rPr>
              <a:t> معط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607400" y="292428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40440" y="370044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4603680"/>
            <a:ext cx="8893080" cy="2254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38680" y="4619520"/>
            <a:ext cx="40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19440" y="54450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سب البيانات ع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266760" y="4452840"/>
            <a:ext cx="6267600" cy="2674080"/>
            <a:chOff x="-266760" y="4452840"/>
            <a:chExt cx="6267600" cy="2674080"/>
          </a:xfrm>
        </p:grpSpPr>
        <p:sp>
          <p:nvSpPr>
            <p:cNvPr id="408" name=""/>
            <p:cNvSpPr/>
            <p:nvPr/>
          </p:nvSpPr>
          <p:spPr>
            <a:xfrm>
              <a:off x="1619280" y="489744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84360" y="6453360"/>
              <a:ext cx="4535280" cy="71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8436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276720" y="4868640"/>
              <a:ext cx="934920" cy="1655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211640" y="4869000"/>
              <a:ext cx="100800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3352680" y="5978520"/>
              <a:ext cx="454320" cy="503280"/>
              <a:chOff x="3352680" y="5978520"/>
              <a:chExt cx="454320" cy="503280"/>
            </a:xfrm>
          </p:grpSpPr>
          <p:sp>
            <p:nvSpPr>
              <p:cNvPr id="414" name=""/>
              <p:cNvSpPr/>
              <p:nvPr/>
            </p:nvSpPr>
            <p:spPr>
              <a:xfrm>
                <a:off x="3352680" y="6043680"/>
                <a:ext cx="454320" cy="4316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564000" y="5978520"/>
                <a:ext cx="239760" cy="503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710240" y="5999040"/>
              <a:ext cx="553680" cy="476280"/>
              <a:chOff x="4710240" y="5999040"/>
              <a:chExt cx="553680" cy="476280"/>
            </a:xfrm>
          </p:grpSpPr>
          <p:sp>
            <p:nvSpPr>
              <p:cNvPr id="417" name=""/>
              <p:cNvSpPr/>
              <p:nvPr/>
            </p:nvSpPr>
            <p:spPr>
              <a:xfrm flipH="1">
                <a:off x="4710240" y="6060600"/>
                <a:ext cx="553680" cy="40824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714200" y="5999040"/>
                <a:ext cx="292320" cy="47628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"/>
            <p:cNvSpPr/>
            <p:nvPr/>
          </p:nvSpPr>
          <p:spPr>
            <a:xfrm>
              <a:off x="971640" y="5589720"/>
              <a:ext cx="28728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06720" y="6299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09880" y="469584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11480" y="630396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036960" y="4697280"/>
              <a:ext cx="0" cy="36036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-26676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51280" y="461340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6640" y="44528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38440" y="636264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48120" y="609588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572000" y="5538960"/>
              <a:ext cx="216000" cy="14436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7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1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990960" y="2187720"/>
            <a:ext cx="1225440" cy="792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-38160" y="0"/>
            <a:ext cx="9144000" cy="220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00440" y="88920"/>
            <a:ext cx="4500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رسم اثبت أن: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-304920" y="-209520"/>
            <a:ext cx="6267600" cy="2673720"/>
            <a:chOff x="-304920" y="-209520"/>
            <a:chExt cx="6267600" cy="2673720"/>
          </a:xfrm>
        </p:grpSpPr>
        <p:sp>
          <p:nvSpPr>
            <p:cNvPr id="434" name=""/>
            <p:cNvSpPr/>
            <p:nvPr/>
          </p:nvSpPr>
          <p:spPr>
            <a:xfrm>
              <a:off x="1581120" y="234720"/>
              <a:ext cx="2592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46200" y="1790280"/>
              <a:ext cx="4535280" cy="70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4620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238560" y="206280"/>
              <a:ext cx="934920" cy="1655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73480" y="206280"/>
              <a:ext cx="1008000" cy="1584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314520" y="1315800"/>
              <a:ext cx="454320" cy="502920"/>
              <a:chOff x="3314520" y="1315800"/>
              <a:chExt cx="454320" cy="502920"/>
            </a:xfrm>
          </p:grpSpPr>
          <p:sp>
            <p:nvSpPr>
              <p:cNvPr id="440" name=""/>
              <p:cNvSpPr/>
              <p:nvPr/>
            </p:nvSpPr>
            <p:spPr>
              <a:xfrm>
                <a:off x="3314520" y="1380600"/>
                <a:ext cx="454320" cy="4312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25840" y="1315800"/>
                <a:ext cx="239760" cy="502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4672080" y="1336320"/>
              <a:ext cx="553680" cy="475920"/>
              <a:chOff x="4672080" y="1336320"/>
              <a:chExt cx="553680" cy="475920"/>
            </a:xfrm>
          </p:grpSpPr>
          <p:sp>
            <p:nvSpPr>
              <p:cNvPr id="443" name=""/>
              <p:cNvSpPr/>
              <p:nvPr/>
            </p:nvSpPr>
            <p:spPr>
              <a:xfrm flipH="1">
                <a:off x="4672080" y="1397880"/>
                <a:ext cx="553680" cy="407880"/>
              </a:xfrm>
              <a:custGeom>
                <a:avLst/>
                <a:gdLst/>
                <a:ahLst/>
                <a:rect l="l" t="t" r="r" b="b"/>
                <a:pathLst>
                  <a:path w="286" h="272">
                    <a:moveTo>
                      <a:pt x="150" y="0"/>
                    </a:moveTo>
                    <a:lnTo>
                      <a:pt x="0" y="239"/>
                    </a:lnTo>
                    <a:lnTo>
                      <a:pt x="286" y="272"/>
                    </a:lnTo>
                  </a:path>
                </a:pathLst>
              </a:custGeom>
              <a:solidFill>
                <a:srgbClr val="ff0066"/>
              </a:solidFill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4676040" y="1336320"/>
                <a:ext cx="292320" cy="475920"/>
              </a:xfrm>
              <a:custGeom>
                <a:avLst/>
                <a:gdLst/>
                <a:ahLst/>
                <a:rect l="l" t="t" r="r" b="b"/>
                <a:pathLst>
                  <a:path w="151" h="317">
                    <a:moveTo>
                      <a:pt x="136" y="317"/>
                    </a:moveTo>
                    <a:cubicBezTo>
                      <a:pt x="135" y="290"/>
                      <a:pt x="151" y="209"/>
                      <a:pt x="128" y="156"/>
                    </a:cubicBezTo>
                    <a:cubicBezTo>
                      <a:pt x="105" y="103"/>
                      <a:pt x="27" y="32"/>
                      <a:pt x="0" y="0"/>
                    </a:cubicBezTo>
                  </a:path>
                </a:pathLst>
              </a:custGeom>
              <a:solidFill>
                <a:srgbClr val="ff00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"/>
            <p:cNvSpPr/>
            <p:nvPr/>
          </p:nvSpPr>
          <p:spPr>
            <a:xfrm>
              <a:off x="933480" y="927000"/>
              <a:ext cx="28728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68560" y="1636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1720" y="3312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73320" y="164124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98800" y="34560"/>
              <a:ext cx="0" cy="360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30492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13120" y="-4896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28480" y="-20952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00280" y="1699920"/>
              <a:ext cx="1152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09960" y="143316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ه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4533840" y="876240"/>
              <a:ext cx="216000" cy="14400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3689280" y="224640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480" y="3006720"/>
            <a:ext cx="9144000" cy="38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429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ه ؟  = ا ب ؟ 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280" y="342900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716360" y="4149720"/>
            <a:ext cx="381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م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24000" y="411804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459320" y="4797360"/>
            <a:ext cx="381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كن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607400" y="5516640"/>
            <a:ext cx="836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540440" y="6184800"/>
            <a:ext cx="828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شكل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755640" y="692280"/>
            <a:ext cx="7993080" cy="5400720"/>
          </a:xfrm>
          <a:prstGeom prst="flowChartMultidocument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87640" y="184464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وإلى اللقاء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55640" y="3573360"/>
            <a:ext cx="468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000000"/>
                </a:solidFill>
                <a:latin typeface="Arial"/>
              </a:rPr>
              <a:t>محمد السي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4360" y="3456000"/>
            <a:ext cx="8064360" cy="342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8160" y="1519200"/>
            <a:ext cx="8207640" cy="18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7400" y="836640"/>
            <a:ext cx="2340000" cy="863640"/>
          </a:xfrm>
          <a:custGeom>
            <a:avLst/>
            <a:gdLst>
              <a:gd name="textAreaLeft" fmla="*/ 534240 w 2340000"/>
              <a:gd name="textAreaRight" fmla="*/ 1805760 w 2340000"/>
              <a:gd name="textAreaTop" fmla="*/ 196920 h 863640"/>
              <a:gd name="textAreaBottom" fmla="*/ 6667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3280" y="0"/>
            <a:ext cx="3600360" cy="83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38440" y="2232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66ff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13720" y="863640"/>
            <a:ext cx="190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تعريفه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8360" y="1557360"/>
            <a:ext cx="835164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متوازي الأضلاع هو شكل رباعي فيه 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  ضلعان متقابلان متوازيان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741400" y="395604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455480" y="5611680"/>
            <a:ext cx="3816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62120" y="3956040"/>
            <a:ext cx="1295640" cy="165564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495440" y="3933720"/>
            <a:ext cx="1295280" cy="1656000"/>
          </a:xfrm>
          <a:prstGeom prst="line">
            <a:avLst/>
          </a:prstGeom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7800" y="366876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6880" y="554040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7760" y="5611680"/>
            <a:ext cx="97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20880" y="32576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19640" y="3782880"/>
            <a:ext cx="1276920" cy="1998720"/>
            <a:chOff x="3419640" y="3782880"/>
            <a:chExt cx="1276920" cy="1998720"/>
          </a:xfrm>
        </p:grpSpPr>
        <p:grpSp>
          <p:nvGrpSpPr>
            <p:cNvPr id="183" name=""/>
            <p:cNvGrpSpPr/>
            <p:nvPr/>
          </p:nvGrpSpPr>
          <p:grpSpPr>
            <a:xfrm>
              <a:off x="4356000" y="3782880"/>
              <a:ext cx="340560" cy="363600"/>
              <a:chOff x="4356000" y="3782880"/>
              <a:chExt cx="340560" cy="363600"/>
            </a:xfrm>
          </p:grpSpPr>
          <p:sp>
            <p:nvSpPr>
              <p:cNvPr id="184" name=""/>
              <p:cNvSpPr/>
              <p:nvPr/>
            </p:nvSpPr>
            <p:spPr>
              <a:xfrm>
                <a:off x="4356000" y="378288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240" y="3787560"/>
                <a:ext cx="19332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19640" y="5418000"/>
              <a:ext cx="342720" cy="363600"/>
              <a:chOff x="3419640" y="5418000"/>
              <a:chExt cx="342720" cy="363600"/>
            </a:xfrm>
          </p:grpSpPr>
          <p:sp>
            <p:nvSpPr>
              <p:cNvPr id="187" name=""/>
              <p:cNvSpPr/>
              <p:nvPr/>
            </p:nvSpPr>
            <p:spPr>
              <a:xfrm>
                <a:off x="3568680" y="5418000"/>
                <a:ext cx="193680" cy="35892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19640" y="5423040"/>
                <a:ext cx="193680" cy="358560"/>
              </a:xfrm>
              <a:custGeom>
                <a:avLst/>
                <a:gdLst/>
                <a:ahLst/>
                <a:rect l="l" t="t" r="r" b="b"/>
                <a:pathLst>
                  <a:path w="122" h="226">
                    <a:moveTo>
                      <a:pt x="121" y="0"/>
                    </a:moveTo>
                    <a:lnTo>
                      <a:pt x="0" y="111"/>
                    </a:lnTo>
                    <a:lnTo>
                      <a:pt x="122" y="226"/>
                    </a:lnTo>
                  </a:path>
                </a:pathLst>
              </a:custGeom>
              <a:noFill/>
              <a:ln w="5724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824840" y="4567680"/>
            <a:ext cx="4336560" cy="403560"/>
            <a:chOff x="1824840" y="4567680"/>
            <a:chExt cx="4336560" cy="403560"/>
          </a:xfrm>
        </p:grpSpPr>
        <p:sp>
          <p:nvSpPr>
            <p:cNvPr id="190" name=""/>
            <p:cNvSpPr/>
            <p:nvPr/>
          </p:nvSpPr>
          <p:spPr>
            <a:xfrm rot="1119000">
              <a:off x="185220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119000">
              <a:off x="5628960" y="4641480"/>
              <a:ext cx="504720" cy="255600"/>
            </a:xfrm>
            <a:custGeom>
              <a:avLst/>
              <a:gdLst/>
              <a:ahLst/>
              <a:rect l="l" t="t" r="r" b="b"/>
              <a:pathLst>
                <a:path w="227" h="156">
                  <a:moveTo>
                    <a:pt x="227" y="156"/>
                  </a:moveTo>
                  <a:lnTo>
                    <a:pt x="153" y="0"/>
                  </a:lnTo>
                  <a:lnTo>
                    <a:pt x="0" y="11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619280" y="5918040"/>
            <a:ext cx="396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66"/>
                </a:solidFill>
                <a:latin typeface="Arial"/>
              </a:rPr>
              <a:t>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480" y="4417920"/>
            <a:ext cx="8893080" cy="240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7360" y="2708280"/>
            <a:ext cx="8893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280" y="907920"/>
            <a:ext cx="8893440" cy="172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24200" y="66600"/>
            <a:ext cx="4681440" cy="692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78200" y="0"/>
            <a:ext cx="497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خواص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4640" y="1052640"/>
            <a:ext cx="627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3760" y="2924280"/>
            <a:ext cx="678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قابلتان متساويتا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31840" y="4567320"/>
            <a:ext cx="699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القطران ينصف كل منهما الآخ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79280" y="1217520"/>
            <a:ext cx="2300040" cy="1130400"/>
            <a:chOff x="179280" y="1217520"/>
            <a:chExt cx="2300040" cy="1130400"/>
          </a:xfrm>
        </p:grpSpPr>
        <p:sp>
          <p:nvSpPr>
            <p:cNvPr id="202" name=""/>
            <p:cNvSpPr/>
            <p:nvPr/>
          </p:nvSpPr>
          <p:spPr>
            <a:xfrm>
              <a:off x="606240" y="12175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9280" y="2347920"/>
              <a:ext cx="1873080" cy="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0080" y="1201680"/>
            <a:ext cx="2282400" cy="1152360"/>
            <a:chOff x="190080" y="1201680"/>
            <a:chExt cx="2282400" cy="1152360"/>
          </a:xfrm>
        </p:grpSpPr>
        <p:sp>
          <p:nvSpPr>
            <p:cNvPr id="205" name=""/>
            <p:cNvSpPr/>
            <p:nvPr/>
          </p:nvSpPr>
          <p:spPr>
            <a:xfrm flipH="1">
              <a:off x="203940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90080" y="1201680"/>
              <a:ext cx="433080" cy="1152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1476360" y="292428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4320" y="3684600"/>
            <a:ext cx="86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080" y="3033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0640" y="388944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222200">
            <a:off x="632520" y="3067920"/>
            <a:ext cx="576360" cy="360360"/>
          </a:xfrm>
          <a:custGeom>
            <a:avLst/>
            <a:gdLst/>
            <a:ahLst/>
            <a:rect l="l" t="t" r="r" b="b"/>
            <a:pathLst>
              <a:path w="363" h="227">
                <a:moveTo>
                  <a:pt x="363" y="0"/>
                </a:moveTo>
                <a:cubicBezTo>
                  <a:pt x="320" y="8"/>
                  <a:pt x="164" y="10"/>
                  <a:pt x="104" y="48"/>
                </a:cubicBezTo>
                <a:cubicBezTo>
                  <a:pt x="44" y="86"/>
                  <a:pt x="22" y="190"/>
                  <a:pt x="0" y="227"/>
                </a:cubicBezTo>
              </a:path>
            </a:pathLst>
          </a:custGeom>
          <a:noFill/>
          <a:ln w="763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5157720"/>
            <a:ext cx="2592360" cy="1224000"/>
          </a:xfrm>
          <a:prstGeom prst="parallelogram">
            <a:avLst>
              <a:gd name="adj" fmla="val 52949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01680" y="5157720"/>
            <a:ext cx="2592360" cy="1224000"/>
            <a:chOff x="301680" y="5157720"/>
            <a:chExt cx="2592360" cy="1224000"/>
          </a:xfrm>
        </p:grpSpPr>
        <p:sp>
          <p:nvSpPr>
            <p:cNvPr id="214" name=""/>
            <p:cNvSpPr/>
            <p:nvPr/>
          </p:nvSpPr>
          <p:spPr>
            <a:xfrm>
              <a:off x="949320" y="5180040"/>
              <a:ext cx="1297080" cy="115092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01680" y="5157720"/>
              <a:ext cx="2592360" cy="1224000"/>
            </a:xfrm>
            <a:prstGeom prst="line">
              <a:avLst/>
            </a:prstGeom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060640" y="5873760"/>
            <a:ext cx="699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4869000"/>
            <a:ext cx="9144000" cy="1989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4040" y="4060800"/>
            <a:ext cx="865080" cy="865080"/>
          </a:xfrm>
          <a:prstGeom prst="ellipse">
            <a:avLst/>
          </a:prstGeom>
          <a:gradFill rotWithShape="0">
            <a:gsLst>
              <a:gs pos="0">
                <a:srgbClr val="0066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80" y="814320"/>
            <a:ext cx="9144000" cy="340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88000" y="-133200"/>
            <a:ext cx="2556000" cy="1197000"/>
          </a:xfrm>
          <a:prstGeom prst="irregularSeal1">
            <a:avLst/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74000" y="11124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مثل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0" y="912960"/>
            <a:ext cx="7993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في الشكل المقابل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متوازي أضلا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ه :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ا ؟  =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%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حسب 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ب ؟   ،  ج ؟  ،  د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0" y="836640"/>
            <a:ext cx="5067360" cy="3005640"/>
            <a:chOff x="0" y="836640"/>
            <a:chExt cx="5067360" cy="3005640"/>
          </a:xfrm>
        </p:grpSpPr>
        <p:sp>
          <p:nvSpPr>
            <p:cNvPr id="224" name=""/>
            <p:cNvSpPr/>
            <p:nvPr/>
          </p:nvSpPr>
          <p:spPr>
            <a:xfrm>
              <a:off x="25200" y="3078000"/>
              <a:ext cx="828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9040" y="1484280"/>
              <a:ext cx="4105440" cy="1728720"/>
            </a:xfrm>
            <a:prstGeom prst="parallelogram">
              <a:avLst>
                <a:gd name="adj" fmla="val 59371"/>
              </a:avLst>
            </a:prstGeom>
            <a:solidFill>
              <a:srgbClr val="8def99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43360" y="11970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95400" y="3068640"/>
              <a:ext cx="11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800" y="836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l-KsorZulfiMath"/>
                </a:rPr>
                <a:t>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95640" y="1535040"/>
              <a:ext cx="15112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%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8120" y="141264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2647800"/>
              <a:ext cx="12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160" y="2587680"/>
              <a:ext cx="12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4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492360" y="409428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1440" y="543888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25880" y="6095880"/>
            <a:ext cx="735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63400" y="4552920"/>
            <a:ext cx="820908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7880" y="4156200"/>
            <a:ext cx="1079280" cy="79200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5960" y="12682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30360" y="6397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8040" y="-270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-4752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92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64000" y="66672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59280" y="62532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86560" y="1316160"/>
            <a:ext cx="165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78600" y="1254240"/>
            <a:ext cx="165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122076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35040" y="1916280"/>
            <a:ext cx="8209080" cy="23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de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95880" y="1989000"/>
            <a:ext cx="453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في الشكل المقاب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31920" y="1763640"/>
            <a:ext cx="5248080" cy="2550240"/>
            <a:chOff x="331920" y="1763640"/>
            <a:chExt cx="5248080" cy="2550240"/>
          </a:xfrm>
        </p:grpSpPr>
        <p:sp>
          <p:nvSpPr>
            <p:cNvPr id="252" name=""/>
            <p:cNvSpPr/>
            <p:nvPr/>
          </p:nvSpPr>
          <p:spPr>
            <a:xfrm>
              <a:off x="755640" y="2349360"/>
              <a:ext cx="4032360" cy="1295640"/>
            </a:xfrm>
            <a:prstGeom prst="parallelogram">
              <a:avLst>
                <a:gd name="adj" fmla="val 77806"/>
              </a:avLst>
            </a:prstGeom>
            <a:solidFill>
              <a:srgbClr val="ffff00"/>
            </a:solidFill>
            <a:ln w="76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2880" y="176364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ا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01680" y="177948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635280" y="3357720"/>
              <a:ext cx="865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ب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1920" y="3549600"/>
              <a:ext cx="865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ج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70200" y="1768320"/>
              <a:ext cx="2017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7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62200" y="2637000"/>
              <a:ext cx="2017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l-KsorZulfiMath"/>
                </a:rPr>
                <a:t> 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5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  <a:ea typeface="Arabic Transparent"/>
                </a:rPr>
                <a:t> سم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4284720" y="2708280"/>
            <a:ext cx="4537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تواز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أضلاع أحسب محيطه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71880" y="4092480"/>
            <a:ext cx="15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2560" y="482112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0200" y="5438880"/>
            <a:ext cx="862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340000" y="60958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د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11280" y="4842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8040" y="1981080"/>
            <a:ext cx="8209080" cy="6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11280" y="132552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699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87640" y="-648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=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 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3760" y="5810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أي مضلع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2360" y="576360"/>
            <a:ext cx="48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جموع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08360" y="123984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حيط متوازي ال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198900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س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2637000"/>
            <a:ext cx="8208720" cy="201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0e8f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9692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3577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فيه: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؟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19640" y="3860640"/>
            <a:ext cx="50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أوجد قياس زواياه الأخر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11640" y="4653000"/>
            <a:ext cx="1800360" cy="647640"/>
          </a:xfrm>
          <a:prstGeom prst="ellipse">
            <a:avLst/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08320" y="465300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52560" y="5234040"/>
            <a:ext cx="695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ا ب 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1440" y="5954760"/>
            <a:ext cx="890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زاويتان متتاليتان متكامل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539640" y="4919760"/>
            <a:ext cx="820908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13320" y="0"/>
            <a:ext cx="737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إ ب ؟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8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 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1040" y="69228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579600"/>
            <a:ext cx="62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0400" y="13827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1403280"/>
            <a:ext cx="12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إ  ا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64000" y="1389240"/>
            <a:ext cx="14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ج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97360" y="1347840"/>
            <a:ext cx="194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81040" y="203040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8120" y="209232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،  ب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932360" y="2019240"/>
            <a:ext cx="1882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  د 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98800" y="199872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52600" y="2692440"/>
            <a:ext cx="8208720" cy="1960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00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73760" y="2657520"/>
            <a:ext cx="180036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13720" y="2563920"/>
            <a:ext cx="143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تمري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97200" y="2739960"/>
            <a:ext cx="41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حل رقم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90680" y="3281400"/>
            <a:ext cx="813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 ج د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توازي أضلاع طول محيطه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1600" y="3860640"/>
            <a:ext cx="813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،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سم احسب أطوال أضلاع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653000"/>
            <a:ext cx="1800000" cy="64764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92640" y="45766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2736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صف المحيط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722840" y="593892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25360" y="5205240"/>
            <a:ext cx="36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طول + العر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743280" y="5962680"/>
            <a:ext cx="9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0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8040" y="11160"/>
            <a:ext cx="820908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0"/>
            <a:ext cx="368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+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0"/>
            <a:ext cx="93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6922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620640"/>
            <a:ext cx="237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492360" y="6206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4960" y="6033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13636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72280" y="1335240"/>
            <a:ext cx="908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م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1280" y="204948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43640" y="201600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48360" y="198900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987640" y="20336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2741760"/>
            <a:ext cx="820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87640" y="272556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7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443640" y="2708280"/>
            <a:ext cx="202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148360" y="2698920"/>
            <a:ext cx="1520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|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|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0800000">
            <a:off x="900000" y="3644640"/>
            <a:ext cx="7344000" cy="2879640"/>
          </a:xfrm>
          <a:prstGeom prst="upArrowCallout">
            <a:avLst>
              <a:gd name="adj1" fmla="val 63764"/>
              <a:gd name="adj2" fmla="val 63758"/>
              <a:gd name="adj3" fmla="val 16667"/>
              <a:gd name="adj4" fmla="val 66660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16200000"/>
          </a:gra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9800" y="3683160"/>
            <a:ext cx="72738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نتقل الآن إلى الحالات التي يكو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ها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4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9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4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9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63560" y="575640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689440" y="49417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3560" y="429264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08520" y="3611520"/>
            <a:ext cx="3492720" cy="852480"/>
          </a:xfrm>
          <a:custGeom>
            <a:avLst/>
            <a:gdLst>
              <a:gd name="textAreaLeft" fmla="*/ 797400 w 3492720"/>
              <a:gd name="textAreaRight" fmla="*/ 2695320 w 349272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22160" y="302436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2374920"/>
            <a:ext cx="3492360" cy="852480"/>
          </a:xfrm>
          <a:custGeom>
            <a:avLst/>
            <a:gdLst>
              <a:gd name="textAreaLeft" fmla="*/ 797040 w 3492360"/>
              <a:gd name="textAreaRight" fmla="*/ 2695320 w 3492360"/>
              <a:gd name="textAreaTop" fmla="*/ 194400 h 852480"/>
              <a:gd name="textAreaBottom" fmla="*/ 65808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7320" y="1204920"/>
            <a:ext cx="8209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63640" y="-19080"/>
            <a:ext cx="5977080" cy="1268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83f9f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146376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كون الشكل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في الحالات الآ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4360" y="190440"/>
            <a:ext cx="7273800" cy="12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الحالات التي يكون فيها الشك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  الرباعي متوازي أضلا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227640" y="242100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أول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315612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واز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71628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81120" y="4464000"/>
            <a:ext cx="7273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 كل ضلعان متقابلان متساوي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300720" y="5045040"/>
            <a:ext cx="25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الة الثالث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7840" y="5932440"/>
            <a:ext cx="82818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إذا كانت كل زاويتان متقابلتان متساويت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6T17:01:31Z</dcterms:created>
  <dc:creator>sa</dc:creator>
  <dc:description/>
  <dc:language>en-US</dc:language>
  <cp:lastModifiedBy>Windows XP</cp:lastModifiedBy>
  <dcterms:modified xsi:type="dcterms:W3CDTF">2007-06-16T21:53:54Z</dcterms:modified>
  <cp:revision>11</cp:revision>
  <dc:subject/>
  <dc:title>الشريحة 1</dc:title>
</cp:coreProperties>
</file>